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33.png" ContentType="image/pn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4795-1DB6-47B9-B344-FBC4A6F4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963A-57CD-45D3-A8A6-E1B1CB53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1229-C2F2-4FE6-9B72-3FB0327A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E7DB-50FB-4841-8E6D-F9AEF6F5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D99-2313-4EE8-8ABD-F62BCC05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F42-D293-47A4-92B0-6C762083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F5FD-63FE-4840-9A74-0654D839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185-9D94-413B-908A-79AA6372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76A-3EC9-44CA-A7A3-CB8C0384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AF1-FB70-4D23-806D-97569841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3F8-55FF-4D0E-A07C-73C37D48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635-7E23-495A-BCE6-D01D86B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58B-55FB-4EB2-96C7-7B002AE5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650-5372-45C9-90E1-B4B2898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7C3-033B-4233-8B7D-FA8E158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DBB-70E6-4CCC-8239-24E22BC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AF3-09CC-45AC-9876-A09849DAF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9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hyperlink" Target="http://www.google.com/imgres?imgurl=http://mediumhistorica.com/wp-content/uploads/2010/03/lord_durham.jpeg&amp;imgrefurl=http://mediumhistorica.com/%3Ftag%3Dhistory&amp;usg=__CuLfKa1-VmjPUYkMO14nOMi7bVs=&amp;h=514&amp;w=350&amp;sz=105&amp;hl=en&amp;start=32&amp;zoom=1&amp;um=1&amp;itbs=1&amp;tbnid=eD0xEuiPc1HT8M:&amp;tbnh=131&amp;tbnw=89&amp;prev=/search%3Fq%3D1700s%2Benglish%2Bman%26start%3D20%26um%3D1%26hl%3Den%26sa%3DN%26rlz%3D1W1GPEA_en%26ndsp%3D20%26biw%3D1260%26bih%3D572%26tbm%3Disch&amp;ei=e-K2TbqZCcvegQfA4cBa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www.google.com/imgres?imgurl=http://us.cdn4.123rf.com/168nwm/candyman/candyman1003/candyman100300159/8510678-john-milton-on-engraving-from-the-1800s-english-poet-author-polemicist-and-civil-servant-for-the-com.jpg&amp;imgrefurl=http://www.123rf.com/photo_8511600_william-shakespeare-1564-1616-on-engraving-from-the-1700s-english-poet-and-playwright-widely-regarde.html&amp;usg=__mHHZFPRZ-7iNvV8IFRHoLYSu_5s=&amp;h=168&amp;w=135&amp;sz=8&amp;hl=en&amp;start=54&amp;zoom=1&amp;um=1&amp;itbs=1&amp;tbnid=sAKGU9SJFez2NM:&amp;tbnh=99&amp;tbnw=80&amp;prev=/search%3Fq%3D1700s%2Benglish%2Bman%26start%3D40%26um%3D1%26hl%3Den%26sa%3DN%26rlz%3D1W1GPEA_en%26ndsp%3D20%26biw%3D1260%26bih%3D572%26tbm%3Disch&amp;ei=qeS2TeuHIoTLgQffia1g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www.google.com/imgres?imgurl=http://4.bp.blogspot.com/-5I9K9e8svDk/TYHr2Z0P1SI/AAAAAAAAkZo/zlhmi6yKQQk/s1600/Mary%252BBeale%252B%252528English%252Bportrait%252Bpainter%25252C%252B1632-1697%252529%252BSelf%252BPortrait%252Bc%252B1685.jpg&amp;imgrefurl=http://bjws.blogspot.com/2011/03/women-artists-self-portraits-mary-beale.html&amp;usg=__OLxu5oCAMjDxfC3fPQFECv2ksGc=&amp;h=506&amp;w=402&amp;sz=56&amp;hl=en&amp;start=16&amp;zoom=1&amp;um=1&amp;itbs=1&amp;tbnid=gfxkyJOfph3RtM:&amp;tbnh=131&amp;tbnw=104&amp;prev=/search%3Fq%3D1700s%2Benglish%2Bwoman%26um%3D1%26hl%3Den%26sa%3DN%26rlz%3D1W1GPEA_en%26ndsp%3D20%26biw%3D1260%26bih%3D572%26tbm%3Disch&amp;ei=OuW2Teb-N87ogAftouhD" TargetMode="External"/><Relationship Id="rId32" Type="http://schemas.openxmlformats.org/officeDocument/2006/relationships/image" Target="../media/image13.jpeg"/><Relationship Id="rId33" Type="http://schemas.openxmlformats.org/officeDocument/2006/relationships/hyperlink" Target="http://www.google.com/imgres?imgurl=http://www.historyswomen.com/images/adams%255B1%255D.jpg&amp;imgrefurl=http://www.historyswomen.com/earlyamerica/abigailadams.htm&amp;usg=__giaDDg54qI1_69xOZwL8iLEC5c0=&amp;h=283&amp;w=194&amp;sz=8&amp;hl=en&amp;start=63&amp;zoom=1&amp;um=1&amp;itbs=1&amp;tbnid=uX4AhZcf0ez-CM:&amp;tbnh=114&amp;tbnw=78&amp;prev=/search%3Fq%3D1700s%2Benglish%2Bwoman%26start%3D60%26um%3D1%26hl%3Den%26sa%3DN%26rlz%3D1W1GPEA_en%26ndsp%3D20%26biw%3D1260%26bih%3D575%26tbm%3Disch&amp;ei=A9a6TdCrK8nngQeM3-mrBw" TargetMode="External"/><Relationship Id="rId34" Type="http://schemas.openxmlformats.org/officeDocument/2006/relationships/image" Target="../media/image14.jpeg"/><Relationship Id="rId35" Type="http://schemas.openxmlformats.org/officeDocument/2006/relationships/hyperlink" Target="http://www.google.com/imgres?imgurl=http://us.cdn2.123rf.com/168nwm/candyman/candyman1004/candyman100400325/8511600-william-shakespeare-1564-1616-on-engraving-from-the-1700s-english-poet-and-playwright-widely-regarde.jpg&amp;imgrefurl=http://www.123rf.com/photo_8520656_william-shakespeare-1564-1616-on-engraving-from-the-1700s-english-poet-and-playwright-widely-regarde.html&amp;usg=__6yH_kXe87_dABGazMnpOzAc8RCs=&amp;h=168&amp;w=133&amp;sz=10&amp;hl=en&amp;start=19&amp;zoom=1&amp;um=1&amp;itbs=1&amp;tbnid=hQ3IpoE6HbzQLM:&amp;tbnh=99&amp;tbnw=78&amp;prev=/search%3Fq%3D1700s%2Benglish%2Bman%26um%3D1%26hl%3Den%26rlz%3D1W1GPEA_en%26biw%3D1260%26bih%3D575%26tbm%3Disch&amp;ei=t9a6TdOvNIbKgQeOkIyfBw" TargetMode="External"/><Relationship Id="rId36" Type="http://schemas.openxmlformats.org/officeDocument/2006/relationships/image" Target="../media/image15.jpeg"/><Relationship Id="rId37" Type="http://schemas.openxmlformats.org/officeDocument/2006/relationships/hyperlink" Target="http://www.google.com/imgres?imgurl=http://www.washingtonreb.com/wp-content/uploads/2011/03/George_iii_england.jpg&amp;imgrefurl=http://www.washingtonreb.com/2011/03/29/we-have-become-king-george-iii/&amp;usg=__b4b4JtmouBxHRzVBXQ_U3sJ5-Sw=&amp;h=370&amp;w=298&amp;sz=19&amp;hl=en&amp;start=2&amp;zoom=1&amp;um=1&amp;itbs=1&amp;tbnid=7QNVbXJ6mfVS4M:&amp;tbnh=122&amp;tbnw=98&amp;prev=/search%3Fq%3Dking%2Bgeorge%2Biii%26um%3D1%26hl%3Den%26rlz%3D1W1GPEA_en%26biw%3D1260%26bih%3D575%26tbm%3Disch&amp;ei=W9e6TfCzINS_gQfew9WTBw" TargetMode="External"/><Relationship Id="rId38" Type="http://schemas.openxmlformats.org/officeDocument/2006/relationships/image" Target="../media/image16.jpeg"/><Relationship Id="rId39" Type="http://schemas.openxmlformats.org/officeDocument/2006/relationships/hyperlink" Target="http://www.google.com/imgres?imgurl=http://us.cdn4.123rf.com/168nwm/candyman/candyman1003/candyman100300159/8510678-john-milton-on-engraving-from-the-1800s-english-poet-author-polemicist-and-civil-servant-for-the-com.jpg&amp;imgrefurl=http://www.123rf.com/photo_8511600_william-shakespeare-1564-1616-on-engraving-from-the-1700s-english-poet-and-playwright-widely-regarde.html&amp;usg=__mHHZFPRZ-7iNvV8IFRHoLYSu_5s=&amp;h=168&amp;w=135&amp;sz=8&amp;hl=en&amp;start=54&amp;zoom=1&amp;um=1&amp;itbs=1&amp;tbnid=sAKGU9SJFez2NM:&amp;tbnh=99&amp;tbnw=80&amp;prev=/search%3Fq%3D1700s%2Benglish%2Bman%26start%3D40%26um%3D1%26hl%3Den%26sa%3DN%26rlz%3D1W1GPEA_en%26ndsp%3D20%26biw%3D1260%26bih%3D572%26tbm%3Disch&amp;ei=qeS2TeuHIoTLgQffia1g" TargetMode="External"/><Relationship Id="rId40" Type="http://schemas.openxmlformats.org/officeDocument/2006/relationships/image" Target="../media/image12.jpe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8.jpeg"/><Relationship Id="rId10" Type="http://schemas.openxmlformats.org/officeDocument/2006/relationships/image" Target="../media/image9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30.jpe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, 1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2"/>
          <p:cNvSpPr/>
          <p:nvPr/>
        </p:nvSpPr>
        <p:spPr>
          <a:xfrm>
            <a:off x="685800" y="5867280"/>
            <a:ext cx="457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old Butt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in the library readin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or to Elihu Lockton 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’m coming over in two hou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2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ing people come over for a very important din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patriots just invaded my home and took my windows for ammun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to England to visit famil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, 177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just bought two slav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0" descr=""/>
          <p:cNvPicPr/>
          <p:nvPr/>
        </p:nvPicPr>
        <p:blipFill>
          <a:blip r:embed="rId21"/>
          <a:stretch/>
        </p:blipFill>
        <p:spPr>
          <a:xfrm>
            <a:off x="152280" y="533520"/>
            <a:ext cx="17528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0" descr=""/>
          <p:cNvPicPr/>
          <p:nvPr/>
        </p:nvPicPr>
        <p:blipFill>
          <a:blip r:embed="rId22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0" descr=""/>
          <p:cNvPicPr/>
          <p:nvPr/>
        </p:nvPicPr>
        <p:blipFill>
          <a:blip r:embed="rId23"/>
          <a:stretch/>
        </p:blipFill>
        <p:spPr>
          <a:xfrm>
            <a:off x="213372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0" descr=""/>
          <p:cNvPicPr/>
          <p:nvPr/>
        </p:nvPicPr>
        <p:blipFill>
          <a:blip r:embed="rId24"/>
          <a:stretch/>
        </p:blipFill>
        <p:spPr>
          <a:xfrm>
            <a:off x="2133720" y="5181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0" descr=""/>
          <p:cNvPicPr/>
          <p:nvPr/>
        </p:nvPicPr>
        <p:blipFill>
          <a:blip r:embed="rId25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0" descr=""/>
          <p:cNvPicPr/>
          <p:nvPr/>
        </p:nvPicPr>
        <p:blipFill>
          <a:blip r:embed="rId26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2" descr="http://t1.gstatic.com/images?q=tbn:ANd9GcR8hZFWKl_LMNCR5OrOfNuCeQAJBE4VtJcedMXP6SoU_WTmLvfS1RdTRec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09480" y="5334120"/>
            <a:ext cx="533520" cy="56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4" descr="http://t2.gstatic.com/images?q=tbn:ANd9GcRugW9b8kLXOCtmAwmZJ7ZFMLksVbuSqFabRaonVSNxd1jDD-zum1vL4YI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219320" y="6095880"/>
            <a:ext cx="457200" cy="56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6" descr="http://t0.gstatic.com/images?q=tbn:ANd9GcS1UImsewvzqXhIBdKGi8aRjNoSJlloy8x1byWtP_JqAA5NNEoH-J7X21A8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85800" y="6095880"/>
            <a:ext cx="457200" cy="561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3"/>
          <p:cNvSpPr/>
          <p:nvPr/>
        </p:nvSpPr>
        <p:spPr>
          <a:xfrm>
            <a:off x="1219320" y="5867280"/>
            <a:ext cx="488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7" descr="http://t0.gstatic.com/images?q=tbn:ANd9GcSMltkIQkw4jJ-tGQN1AMbRZ3Gcs0o5_g1ms3Z4oajtcoLr3O-UUe6uuA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6"/>
          <p:cNvSpPr/>
          <p:nvPr/>
        </p:nvSpPr>
        <p:spPr>
          <a:xfrm>
            <a:off x="0" y="5867280"/>
            <a:ext cx="565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kstain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9" descr="http://t0.gstatic.com/images?q=tbn:ANd9GcTl00qw_Y-d3_5Pew5sscrP_8UNmVd-a16IvjQtzKWTZJx2qTmCbDwGAQ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152280" y="5334120"/>
            <a:ext cx="381240" cy="561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9"/>
          <p:cNvSpPr/>
          <p:nvPr/>
        </p:nvSpPr>
        <p:spPr>
          <a:xfrm>
            <a:off x="0" y="6629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Ge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1" descr="http://t1.gstatic.com/images?q=tbn:ANd9GcQxne7nrFG2EakuDi9T_1R27nbK5pOgpBKmHnQiBTzgNQfWV0Y546JS3Q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152280" y="6095880"/>
            <a:ext cx="45720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4" descr="http://t2.gstatic.com/images?q=tbn:ANd9GcRugW9b8kLXOCtmAwmZJ7ZFMLksVbuSqFabRaonVSNxd1jDD-zum1vL4YI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2133720" y="3124080"/>
            <a:ext cx="457200" cy="561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0"/>
          <p:cNvSpPr/>
          <p:nvPr/>
        </p:nvSpPr>
        <p:spPr>
          <a:xfrm>
            <a:off x="685800" y="66294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ne Lockt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0" y="60948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, 1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ugust 1, 17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nne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2133720" y="3200400"/>
            <a:ext cx="4495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Planning for war, Bribing Patriots to change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ding,  Walking, talking with friends about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Wolfgang Amadeus  Moz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Gulliver’s Travels, Candide, Moll Flan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2 Wall Street, New  York, New 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  123 456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0" descr=""/>
          <p:cNvPicPr/>
          <p:nvPr/>
        </p:nvPicPr>
        <p:blipFill>
          <a:blip r:embed="rId10"/>
          <a:stretch/>
        </p:blipFill>
        <p:spPr>
          <a:xfrm>
            <a:off x="0" y="60948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4" descr=""/>
          <p:cNvPicPr/>
          <p:nvPr/>
        </p:nvPicPr>
        <p:blipFill>
          <a:blip r:embed="rId11"/>
          <a:stretch/>
        </p:blipFill>
        <p:spPr>
          <a:xfrm>
            <a:off x="152280" y="5257800"/>
            <a:ext cx="685800" cy="733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"/>
          <p:cNvPicPr/>
          <p:nvPr/>
        </p:nvPicPr>
        <p:blipFill>
          <a:blip r:embed="rId12"/>
          <a:stretch/>
        </p:blipFill>
        <p:spPr>
          <a:xfrm>
            <a:off x="152280" y="6019920"/>
            <a:ext cx="6858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380880" y="1447920"/>
            <a:ext cx="7467840" cy="281916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Elih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ihu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0" descr=""/>
          <p:cNvPicPr/>
          <p:nvPr/>
        </p:nvPicPr>
        <p:blipFill>
          <a:blip r:embed="rId14"/>
          <a:stretch/>
        </p:blipFill>
        <p:spPr>
          <a:xfrm>
            <a:off x="152280" y="5335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0" descr=""/>
          <p:cNvPicPr/>
          <p:nvPr/>
        </p:nvPicPr>
        <p:blipFill>
          <a:blip r:embed="rId15"/>
          <a:stretch/>
        </p:blipFill>
        <p:spPr>
          <a:xfrm>
            <a:off x="3657600" y="510552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7" descr=""/>
          <p:cNvPicPr/>
          <p:nvPr/>
        </p:nvPicPr>
        <p:blipFill>
          <a:blip r:embed="rId16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"/>
          <p:cNvPicPr/>
          <p:nvPr/>
        </p:nvPicPr>
        <p:blipFill>
          <a:blip r:embed="rId17"/>
          <a:stretch/>
        </p:blipFill>
        <p:spPr>
          <a:xfrm>
            <a:off x="2209680" y="1905120"/>
            <a:ext cx="1143000" cy="1190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9" descr=""/>
          <p:cNvPicPr/>
          <p:nvPr/>
        </p:nvPicPr>
        <p:blipFill>
          <a:blip r:embed="rId18"/>
          <a:stretch/>
        </p:blipFill>
        <p:spPr>
          <a:xfrm>
            <a:off x="3505320" y="1905120"/>
            <a:ext cx="137160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0" descr=""/>
          <p:cNvPicPr/>
          <p:nvPr/>
        </p:nvPicPr>
        <p:blipFill>
          <a:blip r:embed="rId19"/>
          <a:stretch/>
        </p:blipFill>
        <p:spPr>
          <a:xfrm>
            <a:off x="5029200" y="1905120"/>
            <a:ext cx="1523880" cy="1152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1" descr=""/>
          <p:cNvPicPr/>
          <p:nvPr/>
        </p:nvPicPr>
        <p:blipFill>
          <a:blip r:embed="rId20"/>
          <a:stretch/>
        </p:blipFill>
        <p:spPr>
          <a:xfrm>
            <a:off x="838080" y="3200400"/>
            <a:ext cx="1067040" cy="1285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2" descr=""/>
          <p:cNvPicPr/>
          <p:nvPr/>
        </p:nvPicPr>
        <p:blipFill>
          <a:blip r:embed="rId21"/>
          <a:stretch/>
        </p:blipFill>
        <p:spPr>
          <a:xfrm>
            <a:off x="2133720" y="3200400"/>
            <a:ext cx="1295280" cy="130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3" descr=""/>
          <p:cNvPicPr/>
          <p:nvPr/>
        </p:nvPicPr>
        <p:blipFill>
          <a:blip r:embed="rId22"/>
          <a:stretch/>
        </p:blipFill>
        <p:spPr>
          <a:xfrm>
            <a:off x="2133720" y="5105520"/>
            <a:ext cx="1218960" cy="981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4" descr=""/>
          <p:cNvPicPr/>
          <p:nvPr/>
        </p:nvPicPr>
        <p:blipFill>
          <a:blip r:embed="rId23"/>
          <a:stretch/>
        </p:blipFill>
        <p:spPr>
          <a:xfrm>
            <a:off x="838080" y="5105520"/>
            <a:ext cx="10670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5:33:08Z</dcterms:modified>
  <cp:revision>30</cp:revision>
  <dc:subject/>
  <dc:title>Profile</dc:title>
</cp:coreProperties>
</file>